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F5D-65E4-4649-B77E-79351B3C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F78-69BF-4CF0-A5E4-18BB1087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01B-A95E-4100-AA1F-4F2BA40D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F17-2CF6-4F11-955F-B9490666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26B8-6CCE-4F3A-B067-3B6DD368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EAC3-7F7F-4E52-B635-BAF357BD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0D46-9BD5-4057-8FFC-1061A777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0D3B-130A-4140-9586-AC824137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7602-BD82-4D4C-8D39-0F6C34AF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684B-8355-4166-8F0E-295625D0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091B-4FA8-49A0-BE22-7E61377C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EAF-06E0-4927-9B00-CE4B078A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2DE7-F72D-4FDF-B0FB-B489973C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75FD-BCFB-47E8-8AF3-97EE1A50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4C34-9D98-42DF-B1B6-4315625A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33E2-56F3-4CD9-B74F-1821A87B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AFB2-415B-4CD2-B462-91D9EEF9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673-C7E6-4503-AC74-DFABFA00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FFE-5ED9-4991-9795-0859B72F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077-848A-42F3-869A-2663204B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7D9-FAE6-4FD2-B764-ABFF5569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B78-89A4-47C1-9444-454D0209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6B2-E59A-45B7-9695-B59890B2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AD3-3FC4-4BAF-AAB7-59E2F5F6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ECD6-41E6-4B98-91E0-1C52912E5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8EEB-8003-456D-9914-D33BDC263C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lideshare.net/metodicar4/list-1200960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grb"/>
          <p:cNvPicPr/>
          <p:nvPr/>
        </p:nvPicPr>
        <p:blipFill>
          <a:blip r:embed="rId1"/>
          <a:stretch/>
        </p:blipFill>
        <p:spPr>
          <a:xfrm>
            <a:off x="301680" y="266760"/>
            <a:ext cx="527040" cy="379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ан Бошков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Љиљана Рајч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лан Андр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логија, математика и ликовна кул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 у биологији, математици и ум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1905120" y="5791320"/>
            <a:ext cx="1655640" cy="934920"/>
          </a:xfrm>
          <a:prstGeom prst="wedgeRoundRectCallout">
            <a:avLst>
              <a:gd name="adj1" fmla="val -77421"/>
              <a:gd name="adj2" fmla="val -40152"/>
              <a:gd name="adj3" fmla="val 16667"/>
            </a:avLst>
          </a:prstGeom>
          <a:solidFill>
            <a:srgbClr val="ffff99">
              <a:alpha val="63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Кликните овде за унос приказа часа у 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докумен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8"/>
          <p:cNvGraphicFramePr/>
          <p:nvPr/>
        </p:nvGraphicFramePr>
        <p:xfrm>
          <a:off x="1530360" y="1393920"/>
          <a:ext cx="6083280" cy="40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393920"/>
                    <a:ext cx="608328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7"/>
          <p:cNvSpPr/>
          <p:nvPr/>
        </p:nvSpPr>
        <p:spPr>
          <a:xfrm>
            <a:off x="6732720" y="6453360"/>
            <a:ext cx="2411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Креативна школа 20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/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357120" y="5500800"/>
          <a:ext cx="1440000" cy="1214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20" y="5500800"/>
                    <a:ext cx="14400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О 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484280" y="1357200"/>
            <a:ext cx="74898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У савременом свету је критичко мишљење више од потребе. Научним незнањем се манипулише, а сама наука се котира ниже него што то заслужује. Ми смо уверени да школа треба да поврати углед науци и да развија критичко мишљење. И уверени смо да се оба циља постижу интердисциплинарним приступом, а који обезбеђује сагледавање проблема из више углова. Уосталом, разлог за некритичко мишљење је површно прихватање само једног гледиш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ша тема рада је лист, али се надамо да ће бити схваћена као пример. Јер, сваки објекат, појава или процес треба бити сагледан управо на овај начин; кроз потпуни и прожимајући метод и садржај више наука (у нашем случају биологије и математике), уз креативност коју нуде уметности (у нашем случају ликовна култур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Deki\Desktop\leaf.gif"/>
          <p:cNvPicPr/>
          <p:nvPr/>
        </p:nvPicPr>
        <p:blipFill>
          <a:blip r:embed="rId1"/>
          <a:stretch/>
        </p:blipFill>
        <p:spPr>
          <a:xfrm>
            <a:off x="6286680" y="357120"/>
            <a:ext cx="221436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прв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 првом часу уз биолош</a:t>
            </a:r>
            <a:r>
              <a:rPr b="0" lang="sr-RS" sz="1600" spc="-1" strike="noStrike">
                <a:solidFill>
                  <a:srgbClr val="000000"/>
                </a:solidFill>
                <a:latin typeface="Arial Black"/>
              </a:rPr>
              <a:t>ко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предавање о листу на ПП презентацији (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Black"/>
                <a:hlinkClick r:id="rId1"/>
              </a:rPr>
              <a:t>http://www.slideshare.net/metodicar4/list-12009603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, ђаци су дисековали лист; посматрали га и проучавали, те на тај начин одмах примењивали знања која су им презентов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кон тога је уследило кратко предавање из математике. Наизглед неспојиве теме, брзо су постале очигледно повезане; ђаци су излазили на таблу и на примерима фигура одређивали осу симетрије. Убрзо је и лишће које су до тада проучавали са биолошког угла, постало фигура која има или нема осу симетр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Веза је успостављена. :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E:\biljke\slike1\list2 (Copy).JPG"/>
          <p:cNvPicPr/>
          <p:nvPr/>
        </p:nvPicPr>
        <p:blipFill>
          <a:blip r:embed="rId2"/>
          <a:stretch/>
        </p:blipFill>
        <p:spPr>
          <a:xfrm>
            <a:off x="6381720" y="4786200"/>
            <a:ext cx="2619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друг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484280" y="1214280"/>
            <a:ext cx="34448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Други час је замишљен као радионица – биолошко-математичка. Новина је што су ђаци добили до тада невиђене радне листове; хербаријуме. На свакој страни хербаријума био је написан задатак који обједињује вежбање одређивања осне симетрије и знања стечена о грађи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E:\biljke\slike1\druga.JPG"/>
          <p:cNvPicPr/>
          <p:nvPr/>
        </p:nvPicPr>
        <p:blipFill>
          <a:blip r:embed="rId1"/>
          <a:stretch/>
        </p:blipFill>
        <p:spPr>
          <a:xfrm>
            <a:off x="4929120" y="1214280"/>
            <a:ext cx="379404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трећ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Трећи час је такође била радионица, али овог пута уметничка. Ђаци су подељени у четири групе. Две од тих четири су учествовале у креативном експерименту. Сецкали су облике које су сами направили и лепили на листове биљака у саксији. За домаћи задатак су постали научници који прате промене на листу. Очекивања су да ће лист посветлети на месту где се неколико дана налазио облик, а због губитка хлорофила. На тај начин обновили су знања о улогама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реостале две групе су имале задатак да уочавају грађу листа и да реално или маштовито представе оно што су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E:\biljke\slike1\IMG_0587 (Copy).jpg"/>
          <p:cNvPicPr/>
          <p:nvPr/>
        </p:nvPicPr>
        <p:blipFill>
          <a:blip r:embed="rId1"/>
          <a:stretch/>
        </p:blipFill>
        <p:spPr>
          <a:xfrm>
            <a:off x="6000840" y="4572000"/>
            <a:ext cx="2714400" cy="203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E:\biljke\slike1\IMG_0612 (Copy).jpg"/>
          <p:cNvPicPr/>
          <p:nvPr/>
        </p:nvPicPr>
        <p:blipFill>
          <a:blip r:embed="rId2"/>
          <a:stretch/>
        </p:blipFill>
        <p:spPr>
          <a:xfrm>
            <a:off x="1928880" y="4643280"/>
            <a:ext cx="25002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dc:language>en-US</dc:language>
  <cp:lastModifiedBy>Deki</cp:lastModifiedBy>
  <dcterms:modified xsi:type="dcterms:W3CDTF">2012-03-14T23:10:35Z</dcterms:modified>
  <cp:revision>1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