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03F-0613-425B-BB0D-BDE3C2D8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E16-2E5E-49C0-8DC6-FED6D4DA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D6D-9A7B-463E-AD70-8A7492C0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1A5-DF97-4D74-AAAC-FAE12809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B752-CD97-4A07-AD06-55451882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DCFA-D3DD-44D8-B60B-D81C44C9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7F60-E944-4DF9-B18E-31551C26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87E1-7161-4AF2-9DA3-5A332830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0988-0C72-43FB-82AE-CAF57EF9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A6CB-F12E-42DB-876E-D1EDF300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343F-593A-41C5-8A3C-77C94818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AAB-0DE5-4FE9-81FC-206C3550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E5F6-C55B-4106-906A-8C569E2A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DB5D-E7B5-4C3E-B0DA-5C5265FE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7E60-3B7D-49CC-BE6B-4EA4AEC0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892A-FCB2-4EA9-A977-70BF228C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2E11-B402-4E6D-AA70-A01CEABB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E1F-4CBF-4BB8-9312-03B693CF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384-BC88-4F81-9453-068DB141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E5D-A8D5-4F47-8924-DC11762F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4D7-6972-4C37-8DB6-27950519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F76-1CC9-45DF-8440-5EE62FD1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4B3-1FCF-458D-A5BF-7EE02F52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89B-9AF6-4253-ABF8-2D04FE32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9074-35CF-40C1-82AA-13B726C79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5E0A-4293-4714-A50C-2237089CC7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lideshare.net/metodicar4/list-1200960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grb"/>
          <p:cNvPicPr/>
          <p:nvPr/>
        </p:nvPicPr>
        <p:blipFill>
          <a:blip r:embed="rId1"/>
          <a:stretch/>
        </p:blipFill>
        <p:spPr>
          <a:xfrm>
            <a:off x="301680" y="266760"/>
            <a:ext cx="527040" cy="379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ан Бошков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Љиљана Рајч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лан Андр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логија, математика и ликовна кул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 у биологији, математици и ум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1905120" y="5791320"/>
            <a:ext cx="1655640" cy="934920"/>
          </a:xfrm>
          <a:prstGeom prst="wedgeRoundRectCallout">
            <a:avLst>
              <a:gd name="adj1" fmla="val -77421"/>
              <a:gd name="adj2" fmla="val -40152"/>
              <a:gd name="adj3" fmla="val 16667"/>
            </a:avLst>
          </a:prstGeom>
          <a:solidFill>
            <a:srgbClr val="ffff99">
              <a:alpha val="63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Кликните овде за унос приказа часа у 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докумен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8"/>
          <p:cNvGraphicFramePr/>
          <p:nvPr/>
        </p:nvGraphicFramePr>
        <p:xfrm>
          <a:off x="1530360" y="1393920"/>
          <a:ext cx="6083280" cy="40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393920"/>
                    <a:ext cx="608328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7"/>
          <p:cNvSpPr/>
          <p:nvPr/>
        </p:nvSpPr>
        <p:spPr>
          <a:xfrm>
            <a:off x="6732720" y="6453360"/>
            <a:ext cx="2411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Креативна школа 20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/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357120" y="5500800"/>
          <a:ext cx="1440000" cy="1214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20" y="5500800"/>
                    <a:ext cx="14400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О 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484280" y="1357200"/>
            <a:ext cx="74898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У савременом свету је критичко мишљење више од потребе. Научним незнањем се манипулише, а сама наука се котира ниже него што то заслужује. Ми смо уверени да школа треба да поврати углед науци и да развија критичко мишљење. И уверени смо да се оба циља постижу интердисциплинарним приступом, а који обезбеђује сагледавање проблема из више углова. Уосталом, разлог за некритичко мишљење је површно прихватање само једног гледиш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ша тема рада је лист, али се надамо да ће бити схваћена као пример. Јер, сваки објекат, појава или процес треба бити сагледан управо на овај начин; кроз потпуни и прожимајући метод и садржај више наука (у нашем случају биологије и математике), уз креативност коју нуде уметности (у нашем случају ликовна култур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Deki\Desktop\leaf.gif"/>
          <p:cNvPicPr/>
          <p:nvPr/>
        </p:nvPicPr>
        <p:blipFill>
          <a:blip r:embed="rId1"/>
          <a:stretch/>
        </p:blipFill>
        <p:spPr>
          <a:xfrm>
            <a:off x="6286680" y="357120"/>
            <a:ext cx="221436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прв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 првом часу уз биолош</a:t>
            </a:r>
            <a:r>
              <a:rPr b="0" lang="sr-RS" sz="1600" spc="-1" strike="noStrike">
                <a:solidFill>
                  <a:srgbClr val="000000"/>
                </a:solidFill>
                <a:latin typeface="Arial Black"/>
              </a:rPr>
              <a:t>ко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предавање о листу на ПП презентацији (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Black"/>
                <a:hlinkClick r:id="rId1"/>
              </a:rPr>
              <a:t>http://www.slideshare.net/metodicar4/list-12009603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, ђаци су дисековали лист; посматрали га и проучавали, те на тај начин одмах примењивали знања која су им презентов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кон тога је уследило кратко предавање из математике. Наизглед неспојиве теме, брзо су постале очигледно повезане; ђаци су излазили на таблу и на примерима фигура одређивали осу симетрије. Убрзо је и лишће које су до тада проучавали са биолошког угла, постало фигура која има или нема осу симетр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Веза је успостављена. :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E:\biljke\slike1\list2 (Copy).JPG"/>
          <p:cNvPicPr/>
          <p:nvPr/>
        </p:nvPicPr>
        <p:blipFill>
          <a:blip r:embed="rId2"/>
          <a:stretch/>
        </p:blipFill>
        <p:spPr>
          <a:xfrm>
            <a:off x="6381720" y="4786200"/>
            <a:ext cx="2619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друг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484280" y="1214280"/>
            <a:ext cx="34448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Други час је замишљен као радионица – биолошко-математичка. Новина је што су ђаци добили до тада невиђене радне листове; хербаријуме. На свакој страни хербаријума био је написан задатак који обједињује вежбање одређивања осне симетрије и знања стечена о грађи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E:\biljke\slike1\druga.JPG"/>
          <p:cNvPicPr/>
          <p:nvPr/>
        </p:nvPicPr>
        <p:blipFill>
          <a:blip r:embed="rId1"/>
          <a:stretch/>
        </p:blipFill>
        <p:spPr>
          <a:xfrm>
            <a:off x="4929120" y="1214280"/>
            <a:ext cx="379404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трећ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Трећи час је такође била радионица, али овог пута уметничка. Ђаци су подељени у четири групе. Две од тих четири су учествовале у креативном експерименту. Сецкали су облике које су сами направили и лепили на листове биљака у саксији. За домаћи задатак су постали научници који прате промене на листу. Очекивања су да ће лист посветлети на месту где се неколико дана налазио облик, а због губитка хлорофила. На тај начин обновили су знања о улогама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реостале две групе су имале задатак да уочавају грађу листа и да реално или маштовито представе оно што су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E:\biljke\slike1\IMG_0587 (Copy).jpg"/>
          <p:cNvPicPr/>
          <p:nvPr/>
        </p:nvPicPr>
        <p:blipFill>
          <a:blip r:embed="rId1"/>
          <a:stretch/>
        </p:blipFill>
        <p:spPr>
          <a:xfrm>
            <a:off x="6000840" y="4572000"/>
            <a:ext cx="2714400" cy="203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E:\biljke\slike1\IMG_0612 (Copy).jpg"/>
          <p:cNvPicPr/>
          <p:nvPr/>
        </p:nvPicPr>
        <p:blipFill>
          <a:blip r:embed="rId2"/>
          <a:stretch/>
        </p:blipFill>
        <p:spPr>
          <a:xfrm>
            <a:off x="1928880" y="4643280"/>
            <a:ext cx="25002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dc:language>en-US</dc:language>
  <cp:lastModifiedBy>Deki</cp:lastModifiedBy>
  <dcterms:modified xsi:type="dcterms:W3CDTF">2012-03-14T23:10:35Z</dcterms:modified>
  <cp:revision>1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